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622-5A15-4518-8459-F43C2FDA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6D9-B9D5-43C1-AD7E-56D7DE4E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E8D-CB94-463B-B8EE-F30D07CD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F2A-1C05-407C-B8EF-565BDDF9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7E2-350B-42BB-B3F1-86397304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F81-67D3-48DF-B412-58CD1AF5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DB7-731D-4DB0-951F-6E6C5491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EA3-E114-49B5-960C-7535D3E1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82F-6A43-4ECE-895A-5152E566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EE6-E789-4F00-8B62-DE90C0B9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9A9-1868-46D5-AE6E-18F6B2F8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0F0-8FAE-4895-ABD7-BAF10E5E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5A97-188C-4DE3-8945-09B7A618F9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ηλθον αὐτῳ οἱ μαθηται λεγοντες∙ Ἐρημος ἐστιν ὁ τοπος και ἡ ὡρα ἠδη παρηλθεν∙ ἀπολυσον τους ὀχλ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φωνη ἐγενετο ἐκ των οὐρανων∙ Συ εἶ ὁ υἱος μου ὁ ἀγαπη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τε εἰσηλθεν εἰς οἰκον ἀπο του ὀχλου, εὑρον αὐτον οἱ μαθηται αὐτου και εἰπον αὐτῳ περι της παραβολ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ηρυξα γαρ ὑμιν ὃ και παρελαβον, ὁτι Χριστος ἀπεθανεν ὑπερ των ἁμαρτιων ἡμων κατα το εὐαγγελ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 γαρ δια νομου ἀπεθανον νομῳ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οὐν τῳ ἀποστολῳ∙ Μη γινου παντοτε τυφλος ἐν τῃ καρδιᾳ σου ἀλλα πισ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κοσμῳ ἠν, κσι ὁ κοσμος δι’ αὐτου ἐγενετο, και ὁ κοσμος αὐτον οὐκ ἐγν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υριε δικαιε, και ὁ κοσμος σε οὐκ ἐγνω, ἐγω δε σε ἐγνων, και οὐτοι ἐγνωσαν ὁτι συ με ἀπεστειλ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e went up into the boat with them and they fle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is he went down to Galilee, and Mary and his brothers and his disciples, and they remained there for not many days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hold, the son of man will send his angels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t word which I spoke will judge him on the day of the Lor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216080"/>
            <a:ext cx="894384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ὑτη δε ἐστιν ἡ αἰωνιος ζωη, γινωσκειν σε τον μονον ἀληθινον θεον και ὁν ἀπεστειλας Ἰησου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λλον ἀπεστειλεν∙ κἀκεινον ἀπεκτειναν, και πολλους ἀλλους, οὑς μεν διωκοντες, οὑς δε ἀποκτεινον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οις∙ Οὐκ γινωσκετε την παραβολην ταυτην, και πως ἀλλας τας παραβολας γων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παλιν ἠνεγκαν το τεκνον μετα του δαιμονιου προς αὐτον. και εὐθυς πεσων ἐπι της γης ἐκραζ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δου ὁ σπειρων σπειρει ἐπι την γην∙ και ἐγενετο ὃ μεν ἐπεσεν παρα την ὁδον, και ἀλλο ἐπεσεν εἰς την γην την καλην, και εὐθυς ἀνεβη καλως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το οὐν το βιβλιον πολλοι ἀνεγνωσαν ὁτι ἐπεγνωσαν την ἀληθε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ῳ ὁτι Σοι λεγω, ἐγειρε ἀρον αὐτο και ὑπαγε εἰς τον οἰκον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οἱ ὑπηπεται καταλιποντες τα προβατα ἐφυγον ἀπαγγελλοντες ἁ εἰδον και ἀλλοι ἀνεβησαν ἰδ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 disciples of John came and took away the dead man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ving received (him) they killed him and cast him outside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coming into the house, he said, ‘Rejoice! We will eat with on another now’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happened that a sheep fled. Therefore the son left the others and found it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428760" y="1428840"/>
            <a:ext cx="84294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elation 1.1-19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κάλθψ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revelati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ησοῦ Χριστοῦ ἣν ἔδωκ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gav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ῷ ὁ θεὸς δεῖξ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o sho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ῖς δούλοις αὐτοῦ ἃ δεῖ γενέσθαι ἐν τάχ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e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καὶ ἐσήμαν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show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στείλας διὰ τοῦ ἀγγέλου αὐτοῦ τῷ δούλῳ αὐτοῦ Ἰωνάννῃ,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ὃς ἐμαρτύρησεν τὸν λόγον τοῦ θεοῦ καὶ τὴν μαρτρίαν Ἰησοῦ Χριστοῦ ὅσα εἶδε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μακάριος ὁ ἀναγινώσκων καὶ οἱ ἀκούοντες τοὺς λόγους τῆς προφτε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phec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τηροῦντες τὰ ἐν αὐτῇ γεγραμμέν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aving been writte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ὁ γὰρ καιρὸς ἐγγύς.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ὼ Ἰωάννης, ὁ ἀδελφὸς ὑμῶν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ενόμην ἐν πνεύματ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irit in the dat. s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ῇ κυριακῇ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ord’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μέρᾳ καὶ ἤκουσα ὀπίσω μου φωνὴν μεγάλην ὡς σάλιπιγγ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rumpet in the gen. s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642960" y="15717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11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ούση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ay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Ὃ βλέπεις γράψον εἰς βιβλίον καὶ πέμψον ταῖς ἑπτὰ ἐκκλησίας,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2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πέστρεψ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ρφω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tur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έπειν τὴν φωνὴν ἥτ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ἥ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άλει μετ’ ἐμοῦ, καὶ ἐπιστρέψας εἶδον ἑπτὰ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seven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χν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ampst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ρυσ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ol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7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ὅτε εἶδον αὐτόν, ἔπεσα πρὸς τοὺς πόδ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ee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 ἐπ’ λέγων,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γράψον οὖν ἃ εἶδες καὶ ἃ εἰσὶν καὶ ἃ μέλλει γενέσθαι μετὰ ταῦ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9:03:54Z</dcterms:created>
  <dc:creator>Sarah</dc:creator>
  <dc:description/>
  <dc:language>en-US</dc:language>
  <cp:lastModifiedBy>Sarah</cp:lastModifiedBy>
  <dcterms:modified xsi:type="dcterms:W3CDTF">2008-09-17T11:26:22Z</dcterms:modified>
  <cp:revision>51</cp:revision>
  <dc:subject/>
  <dc:title>Slide 1</dc:title>
</cp:coreProperties>
</file>